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342-1CB2-4A58-8FB1-85DC33A8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230-16A7-4704-986A-A5D7985F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B0300-41B7-4252-9743-DC1ADB13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07683-6E23-4D10-8FDC-43F5D1F8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D76C9-E298-45CF-9E14-FC079C42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5611A-8701-4B66-A92F-D5A85DE2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4500C-ECCC-469E-8724-254D0B86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8899C-6C14-4A8A-A278-E9BD2DD0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2EA75-EC8F-4C5A-AF81-AEED7BA5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25DD6-8D96-44D8-82EC-01B6B4FE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A4D1A-6A32-4553-A258-DEBF0919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CD60E-20FA-4682-AFBF-96D22AC6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552-A281-486F-9ECA-293D83F6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FFEE3-C88D-4798-81EF-BF794F6D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8D57D-1E01-41EA-9EA2-38E5F4D2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037CC-7770-4839-B465-DC851F91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0AB9B-DD65-4416-B1DC-DB6382E4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62E83-7718-4116-B84C-B844432B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E5BF0-1E06-492E-B5B1-246B5C40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F4AE7-6D72-4C52-9005-90AE34D4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B845D-37A2-4FF5-B8ED-D1CEA941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CE00B-1696-44A6-9B3D-8BEC9D15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46F53-FA38-49B7-9589-E5B4B4FF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341C-6641-48A0-87E2-9DF35365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F3280-5F30-4507-BD52-BECC4E51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20B18-B2F3-43D9-B46C-0E4D640D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56DD6-D5AF-48EE-B378-C4CFD924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0D4F8-2545-43BC-93C6-DBA7A342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B528C-C819-4375-AF9A-FC4697E9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1E8FB-F19E-4AAC-9004-8273FFEA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1921C-8319-4DDF-BA8E-1979E3CD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41A5E-A0F1-410E-A07E-00523E37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4AC97-B6ED-4749-9A61-C957C8EB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F4D05-C221-4945-8A1A-E5C4B079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BA21-1769-40D8-99F1-753EAE2F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874CF-E824-42FC-9016-508723D2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C8ACB-C6E2-4ABA-87A9-1839D825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7C72D-5FED-4326-9D31-BE185606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35BDE-1ECB-47CA-A31A-20AC6DA6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F7BDA-113E-40A0-ADB9-9D48EF2F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AAF2F-DC1A-4B9D-8C11-4A64FE95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E648F-CFE3-4679-AEDB-DE65AF5C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D56A8-8573-4B52-8D9F-9212CFC9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11D40-4F56-4F90-9EBA-20ED9994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62726-0197-430E-A9B7-FA32C061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97A3-7CFB-4278-A40F-5CE935D4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77508-516B-4BD3-A977-82ACC869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3D4BB-E615-4A84-8AD9-927C4387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C5FD3-8196-42B0-A1DD-1B0F19E3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10EB4-3DE4-4CD4-B9D0-BD6BD5F4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00B84-0A4F-4037-84A6-AF02B43A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2C9E-4FED-461A-BB81-34D554BC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CE35-6E67-4476-9AA0-274EAB87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AF8A-4BCA-46CF-B20F-6697B4FB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99F9-DFD2-4140-9E0A-EDD58529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6CA7-72E4-4C10-A861-5F90B7B9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C4F-D4EF-4FC9-8952-B0EAE6E3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3DE3-456F-4759-9638-808EFD73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C8E2-D6F6-4B70-8176-B17B329C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37AD-47A3-4734-928B-B214C5BF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7284-B1B1-49C6-A915-F1D97F76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1ECA-94B3-48A1-840F-BB7C44CB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5014E-749B-4BA9-999F-26C0AE74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FE6AA-679A-4356-A8EA-6E7D2AD3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0E062-78FF-4CAA-97F5-4798B4C5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8F4B1-446E-46E6-9812-5F856B45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E3435-AE69-4F59-BCE2-F285B529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667-E66C-400F-B148-685B49B8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1657-EEDF-40AE-B6AD-951BA4DE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0990-4A85-4499-80FB-30927035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8D88A-1148-4254-B1BF-F2F211C4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701A-5F7A-4EF7-AC44-6BB48CC7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4CDE-0A3E-4605-8530-2FDF1351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D1B3-9F21-424B-8ED5-0415EC3D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3AA56-51EB-4CFC-84DC-E8F7ED37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EEB39-658E-4FC4-A5E5-D88FF18F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3C3EC-6A8A-4F16-865E-2E7CE186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7174-ED4F-4231-82D5-8025A6AA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526-D325-41EC-93B4-5B43A992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83928-549C-4EC8-B513-960F60E0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33353-4D03-4DBE-8E4A-E69FAEE1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14484-658F-4F03-A821-FEB89E2C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9476F-DA18-4692-8761-DB6CD083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9104-BCF4-45E2-BD44-88386063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461F4-5CAF-48F3-8102-A6E0DF33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E9DA4-8DF8-4A64-BF94-FE901FDB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8187F-D8E5-4533-98EE-61E728EF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49439-33B5-4802-A838-E7FA0F4F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49293-CFE2-4DB3-9C01-E2427AC0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167-CDE7-4892-B9D8-71FB8D77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AE592-C4F0-4993-9D35-1487EA6B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89404-0904-46D5-A664-37E298E3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45A7A-3391-4EA6-BC8B-E2F9E46D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E4ABC-194A-4244-9C3A-EB909F27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DBD7-6CBE-44F8-A91E-BC67DFE9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98ED8-92EA-46E8-9C2B-3073643B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01195-7E35-47BE-9978-A42D3042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600D6-345A-4EF9-9D09-4173F288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C6E0A-12DC-48AB-A58D-34AC89C6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E82E5-F8D7-4AD6-A317-0B76649B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CBC-68F5-4F74-B541-2A81EAD5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8A4CF-4763-433F-889B-9C9013F9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2562C-7D14-4E48-AAC7-B79ED87B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B69A2-58D4-4808-B41A-D5D5CB75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B0D18-2989-497E-9DF2-C0970D2A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B2C9B-5AA6-4DAD-BA6A-96C18BCA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449DC-AEBE-4089-97DA-48F65E45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9B779-6310-4504-A79A-37EAB7B9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B32DA-9B3A-4E53-9E9F-A603F511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D173A-2EC3-4D84-9B2E-C9B52D1F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F0CD0-FB2C-4FEE-BD4E-F2CCA338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F23-E65A-4748-98CD-E5C54694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86561-6D34-43FB-90ED-C526938A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1D372-3660-4AFD-8354-9612B768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3ED0F-EE8F-4BAB-92AB-F0D3D2D5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D8881-FB49-4EA0-9500-C733FBE8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61965-1310-47C8-B398-EC7D4175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A6DFA-3C40-40F8-9205-9A7A3504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F5889-968E-4442-A6A9-4532483C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13FD1-165C-4E0C-905E-E48AEB52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D7348-599D-4E26-A158-7C606C55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5E79C-F59C-4F86-ADAC-090F45AB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D67-F5F7-4DAE-897F-B356EFDC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38046-34D4-4DB1-9B1B-6214AD0E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D2EBA-502D-44B9-9592-2FB7E128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F5F6A-3FEA-48AD-A9DD-26A6B825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B4CEB-921D-4154-98DB-C40CF563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6C337-8845-401A-980B-9D607F34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FB4D0-706E-461E-9308-3071FB58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CB2E5-1969-491F-8A90-D16F5B0A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2C7D8-74EB-4F06-BBAC-8713FA99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37221-296C-4C07-AC60-C2D6EFBF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68EB9-69CC-403F-9278-CF0D3DBF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FF1-D1E7-4579-88B3-A58AC3C1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67F85-3DE5-4180-A150-4399E0B9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672FF-A970-4B93-A821-1559E792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C97AD-B2F7-4CCE-A7B4-E0E04E66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1069D-7E27-4C28-9B08-4BAA9719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D9798-BD84-4EC9-91EB-6A665212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7BDAD-505E-460C-B0F1-AE7141BA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5B07E-0364-4A1B-B71F-523C0637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3D9A7-2130-4DB9-A198-F8E09FB6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3D1EA-EFA9-42A4-9364-D0BD84A4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FF665-28B4-43A9-B8EE-AE19AC0D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3A0A-9C6E-4810-95AB-C905EA29916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C9D4-47E6-49F9-AF8F-3E67FB94BB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2317-0F1D-481E-9BCC-B091F08E7C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8A02-0299-4F0E-B68F-57E3F9F8CA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F287-84C9-4D00-8653-1DFADB279F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D178-2689-4095-87BC-A61D004459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16A0-C32C-4DF3-BBE9-77C7D7CBB93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E4A6-C0B5-409C-9894-3A849710052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AA88-7528-44CC-B4CA-FEC64E8912C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D802-0CD3-4E7A-8FD3-49CEA781E4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8264-04C5-459E-84EE-1F4F4F53C92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F0A0-A761-439E-B5CA-894603F78A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6 Buď Pánu Bohu vďa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Pánu Bohu vďaka, č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sláva na výs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radostnú nám poslal zv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svojej láskav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v Kristovi sa prizn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ruku spásy pod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večne vyvýš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Ježiš Kristus, Boží Sy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mocný Vykup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 bahna hriechu, jarma ví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vyslobodiť priš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ša Obeť, Kňaz i Chr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esta, Pravda, Život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večnú spásu m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 Svätý, pravdy Učite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poľahlivý Radc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v kríži pravý Teš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 zoslaný od Otc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 nami je vždy, v každý č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mocou svojou vedie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lávy z poníženi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26:57Z</dcterms:modified>
  <cp:revision>20</cp:revision>
  <dc:subject/>
  <dc:title>Je veľký náš Pán, on slávy je Kráľ Nech do všetkých strán  spev vrúcnych znie chvál.</dc:title>
</cp:coreProperties>
</file>